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FF32-8B78-48E2-9F0A-2C522FDCC5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: Bond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LEVE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show the energy transfers in reactions on an energy level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how us the energy stored in the reactants compared to the energy stored in the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(‘delta H’) is the symbol for the ‘change in energy’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xothermic reaction the products have less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negative for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othermic energy level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dothermic reaction the products have more energy than the reac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is positive for an end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seen how bonds are formed (both ionic and coval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think energy is needed to break b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ing bonds requires energy. It is end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new bonds gives out energy. It is exother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chemical reaction to occur, bonds must be both formed and br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  +  CuSO4               Cu    +  FeS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Re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reactions always involve energ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and breaking bonds involves energ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give out heat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ustion is an exotherm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reactions take in heat energy from their surroun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ause temperatures to f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pparatus as sh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with 20ml of each substance in 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results table before you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99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be using acids so wear safety gogg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pe up spills immed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 stop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put solids down the sink – use the bowl at the fro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6699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AND CHEMICAL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69F4-8673-4283-A1CB-47F4FD03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5C70-1863-43C4-9797-2F23DD217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C92-AE40-4A63-B583-4705AD75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9EE-1F13-4D96-9DDD-76F2E749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1BD7-1452-4AE9-814A-CB65AFC31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EA04-5D8A-40A1-818F-8CD14141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E834-3ADA-41D9-88A3-A1FF74E1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E694-23D2-4B0A-BA23-3576A91E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7838-8D95-4785-B8F8-9F613DC1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A932-F603-48F0-9C7D-EB78E7346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EE65-BDA7-489E-B31C-6A936020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CD8A-3284-4EC7-8114-253D6556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47ED-7A16-495B-B037-AB81EB0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35B9-1AAA-4C6C-BAE4-EAF3658D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57FC-BA89-4B03-BA47-4A53076B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BD2F-2105-4617-A06E-850321D4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AC56-005D-4F13-994F-C87917DF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95C-9FFB-42B8-98F8-1DDEA58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D90-D480-4954-B21B-CE367892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DEB1-1FDD-4950-9CA3-19538A85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FD0-A873-4475-875C-3F16A14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7DF-4344-43B1-B6A0-76EE81C1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7B6-E925-413F-8DB4-76F51495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DA2F-2361-4031-8982-3532975E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38D5-8495-4D56-BD24-6660E679E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FA7F4-BD8E-4EA2-811F-4A863F5F6837}" type="slidenum">
              <a:rPr b="0" lang="en-US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200" spc="-1" strike="noStrike">
                <a:solidFill>
                  <a:srgbClr val="006666"/>
                </a:solidFill>
                <a:latin typeface="Verdana"/>
              </a:rPr>
              <a:t>Understanding Chemical Reactions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Lesson: Bonds &amp; Energ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LEVEL DIAGRAM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can show the energy transfers in reactions on an </a:t>
            </a:r>
            <a:r>
              <a:rPr b="1" lang="en-GB" sz="3200" spc="-1" strike="noStrike">
                <a:solidFill>
                  <a:srgbClr val="ff0000"/>
                </a:solidFill>
                <a:latin typeface="Verdana"/>
              </a:rPr>
              <a:t>energy level diagram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These show us the energy stored in the reactants compared to the energy stored in the product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6" name="Picture 9" descr="exo"/>
          <p:cNvPicPr/>
          <p:nvPr/>
        </p:nvPicPr>
        <p:blipFill>
          <a:blip r:embed="rId1"/>
          <a:stretch/>
        </p:blipFill>
        <p:spPr>
          <a:xfrm>
            <a:off x="250920" y="1484280"/>
            <a:ext cx="8497800" cy="496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x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(‘delta H’) is the symbol for the ‘change in energy’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In an exothermic reaction the products have </a:t>
            </a:r>
            <a:r>
              <a:rPr b="1" lang="en-GB" sz="2400" spc="-1" strike="noStrike">
                <a:solidFill>
                  <a:srgbClr val="006699"/>
                </a:solidFill>
                <a:latin typeface="Verdana"/>
              </a:rPr>
              <a:t>less</a:t>
            </a:r>
            <a:r>
              <a:rPr b="0" lang="en-GB" sz="24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H is negative for an exothermic reaction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9" name="Picture 7" descr="exo"/>
          <p:cNvPicPr/>
          <p:nvPr/>
        </p:nvPicPr>
        <p:blipFill>
          <a:blip r:embed="rId1"/>
          <a:stretch/>
        </p:blipFill>
        <p:spPr>
          <a:xfrm>
            <a:off x="250920" y="1628640"/>
            <a:ext cx="4105080" cy="432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01" name="Picture 5" descr="endo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681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66"/>
                </a:solidFill>
                <a:latin typeface="Verdana"/>
              </a:rPr>
              <a:t>Endoothermic energy level diagram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In an endothermic reaction the products have </a:t>
            </a:r>
            <a:r>
              <a:rPr b="1" lang="en-GB" sz="2800" spc="-1" strike="noStrike">
                <a:solidFill>
                  <a:srgbClr val="006699"/>
                </a:solidFill>
                <a:latin typeface="Verdana"/>
              </a:rPr>
              <a:t>more</a:t>
            </a:r>
            <a:r>
              <a:rPr b="0" lang="en-GB" sz="2800" spc="-1" strike="noStrike">
                <a:solidFill>
                  <a:srgbClr val="006699"/>
                </a:solidFill>
                <a:latin typeface="Verdana"/>
              </a:rPr>
              <a:t> energy than the reactants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H is positive for an endothermic reactio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04" name="Picture 6" descr="endo"/>
          <p:cNvPicPr/>
          <p:nvPr/>
        </p:nvPicPr>
        <p:blipFill>
          <a:blip r:embed="rId1"/>
          <a:stretch/>
        </p:blipFill>
        <p:spPr>
          <a:xfrm>
            <a:off x="324000" y="1628640"/>
            <a:ext cx="3887640" cy="4392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Making and breaking bond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e have seen how bonds are formed (both ionic and covalent)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you think energy is needed to break bonds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5" descr="bonds"/>
          <p:cNvPicPr/>
          <p:nvPr/>
        </p:nvPicPr>
        <p:blipFill>
          <a:blip r:embed="rId1"/>
          <a:stretch/>
        </p:blipFill>
        <p:spPr>
          <a:xfrm>
            <a:off x="1619280" y="0"/>
            <a:ext cx="5761080" cy="6597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Breaking bonds requires energy. It is end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99"/>
                </a:solidFill>
                <a:latin typeface="Verdana"/>
              </a:rPr>
              <a:t>Making new bonds gives out energy. It is exothermic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bonds2"/>
          <p:cNvPicPr/>
          <p:nvPr/>
        </p:nvPicPr>
        <p:blipFill>
          <a:blip r:embed="rId1"/>
          <a:stretch/>
        </p:blipFill>
        <p:spPr>
          <a:xfrm>
            <a:off x="179280" y="260280"/>
            <a:ext cx="8496360" cy="63374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or a chemical reaction to occur, bonds must be both formed and broken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Fe  +  Cu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               </a:t>
            </a: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u    +  FeSO</a:t>
            </a:r>
            <a:r>
              <a:rPr b="0" lang="en-GB" sz="3200" spc="-1" strike="noStrike" baseline="-25000">
                <a:solidFill>
                  <a:srgbClr val="ff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3635280" y="4076640"/>
            <a:ext cx="122400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Basic Revision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Chemical reactions always involve energy chang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Making and breaking bonds involves energy change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x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give out heat energy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Combustion is an exothermic reaction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6699"/>
                </a:solidFill>
                <a:uFillTx/>
                <a:latin typeface="Verdana"/>
              </a:rPr>
              <a:t>Endothermic reaction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reactions take in heat energy from their surrounding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99"/>
                </a:solidFill>
                <a:latin typeface="Verdana"/>
              </a:rPr>
              <a:t>These cause temperatures to fall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5" descr="temp1"/>
          <p:cNvPicPr/>
          <p:nvPr/>
        </p:nvPicPr>
        <p:blipFill>
          <a:blip r:embed="rId1"/>
          <a:stretch/>
        </p:blipFill>
        <p:spPr>
          <a:xfrm>
            <a:off x="2124000" y="0"/>
            <a:ext cx="5184720" cy="68580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Use the apparatus as show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Work with 20ml of each substance in turn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Verdana"/>
              </a:rPr>
              <a:t>Copy the results table before you star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8" name="Picture 7" descr="temp2"/>
          <p:cNvPicPr/>
          <p:nvPr/>
        </p:nvPicPr>
        <p:blipFill>
          <a:blip r:embed="rId1"/>
          <a:stretch/>
        </p:blipFill>
        <p:spPr>
          <a:xfrm>
            <a:off x="324000" y="1628640"/>
            <a:ext cx="3960720" cy="46087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Verdana"/>
              </a:rPr>
              <a:t>RISK ASSESSMEN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You will be using acids so wear safety goggles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Wipe up spills immediately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Replace stoppers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Verdana"/>
              </a:rPr>
              <a:t>Do not put solids down the sink – use the bowl at the front!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66"/>
                </a:solidFill>
                <a:latin typeface="Verdana"/>
              </a:rPr>
              <a:t>ENERGY AND CHEMICAL REACTIONS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600200"/>
          <a:ext cx="8229600" cy="5072040"/>
        </p:xfrm>
        <a:graphic>
          <a:graphicData uri="http://schemas.openxmlformats.org/drawingml/2006/table">
            <a:tbl>
              <a:tblPr/>
              <a:tblGrid>
                <a:gridCol w="3178080"/>
                <a:gridCol w="1513080"/>
                <a:gridCol w="1481040"/>
                <a:gridCol w="205740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before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temp. after mixing (</a:t>
                      </a:r>
                      <a:r>
                        <a:rPr b="1" lang="en-GB" sz="1800" spc="-1" strike="noStrike" baseline="30000">
                          <a:solidFill>
                            <a:srgbClr val="006699"/>
                          </a:solidFill>
                          <a:latin typeface="Verdana"/>
                        </a:rPr>
                        <a:t>0</a:t>
                      </a: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)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Exothermic or Endothermic?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xide sol’n + hydrochloric acid 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odium hydrogen carbonate sol’n + citric acid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copper sulphate sol’n + magnesium powder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sulphuric acid + magnesium ribbon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barium chloride + sodium sulphate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18:50:28Z</dcterms:created>
  <dc:creator>Keith Hicks</dc:creator>
  <dc:description/>
  <dc:language>en-US</dc:language>
  <cp:lastModifiedBy>LEGION</cp:lastModifiedBy>
  <dcterms:modified xsi:type="dcterms:W3CDTF">2015-09-04T10:11:37Z</dcterms:modified>
  <cp:revision>17</cp:revision>
  <dc:subject/>
  <dc:title>Understanding Chemical Reactions</dc:title>
</cp:coreProperties>
</file>